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157-71EA-4946-BFC7-CD005728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9B1-75C5-4ECF-BE02-66F3FC7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0B7-36EE-492E-A421-90B5688A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0FA-D95B-4EE0-BB29-A05B6710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A9D-5EA0-4FF4-A48C-C6BE1E4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CC3-B6E1-4BCD-A752-AD083FE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E35-DD7F-446D-9A5F-82FB3DE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F5F-88ED-4CD8-BA7E-22CDF54A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0DA-4969-4535-A687-AB3F677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519-8EBA-4D87-8C43-3BCB929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7D9-2118-4630-B8E1-A1E569F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B63-7B59-424F-9595-0D4D8991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8A1-E37E-448A-A671-E9C4D9A7F0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Jingle Danc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egalia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huffle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dru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latter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il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orrow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occasin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5-07T16:22:58Z</dcterms:modified>
  <cp:revision>40</cp:revision>
  <dc:subject/>
  <dc:title>Password</dc:title>
</cp:coreProperties>
</file>